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BBD-8991-494E-B7F5-D12B79A2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A77-CCCD-4711-8EA8-01B153C2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C0A-506F-43F3-90D6-5556BA47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F24-4C20-4B77-9555-6920D5BB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E1DF-F85E-4FC9-9148-8F4D0452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B2D6-EE79-42A4-B3FF-375C78EF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854B-E6F8-40D6-B570-434D44EC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BD41-E282-49EC-B655-E6E8BD01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3DF6-58B9-4242-BA66-59901814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169A-B2BB-4C79-928F-9F992307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7039-4A85-4333-9856-8E77C748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331-ECF3-4FBE-89F3-25C36696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734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5DA7-9109-493C-99D8-EC106F97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94AB-E6EA-48DF-B7D1-23FAFCFB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072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662E-1E3B-436E-8767-B827D23C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734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B6B0-4BBA-496D-9471-701C94E3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187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4636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07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187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4636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2A4A-CC83-49D8-A688-B841D996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B7EB-DE10-4DC6-9ECA-8B87C744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B247-406F-4EB0-A070-1B2C4831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EF1B-78E1-429E-AF3F-C1778720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D54F-2F0E-4F7A-8B79-D6D0F98E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8D5-386B-4D3C-B86E-BBAB3ED3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725A-6B4B-40AC-B65A-72ABDFD4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2EB-D79E-40D9-91EA-B161925E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2234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2234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2234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2234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2234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347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61EC-C244-4C32-BE8F-DB2229B5C14F}" type="slidenum">
              <a:rPr b="0" lang="en-US" sz="1400" spc="-1" strike="noStrike">
                <a:solidFill>
                  <a:srgbClr val="22347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02888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2234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2234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2234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2234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2234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CA21-5639-459A-9C78-4D7FE9233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Allegory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story in which the characters represent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bstract qualities or ideas.  For example, in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westerns, the sheriff represents the good, and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outlaw represents evil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Climax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point at which the action in a story or play reaches its emotional peak. </a:t>
            </a:r>
            <a:br>
              <a:rPr sz="4400"/>
            </a:b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46784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3471"/>
                </a:solidFill>
                <a:latin typeface="Arial"/>
              </a:rPr>
              <a:t>Conflict:</a:t>
            </a:r>
            <a:br>
              <a:rPr sz="4000"/>
            </a:br>
            <a:r>
              <a:rPr b="0" lang="en-US" sz="4000" spc="-1" strike="noStrike">
                <a:solidFill>
                  <a:srgbClr val="223471"/>
                </a:solidFill>
                <a:latin typeface="Arial"/>
              </a:rPr>
              <a:t>The elements that create a plot.  Traditionally, every plot is build from the most basic elements of a conflict and an eventual resolution.  The conflict can be internal (within one character) or external (among or between characters, society, and/or nature). </a:t>
            </a:r>
            <a:endParaRPr b="0" lang="en-US" sz="40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Contrast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o explain how two things differ.  To compare and contrast is to explain how two things are alike and how they are different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Couplets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pair of rhyming lines in a poem often set off from the rest of the poem.  Shakespeare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 sonnets all end in couplets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3471"/>
                </a:solidFill>
                <a:latin typeface="Arial"/>
              </a:rPr>
              <a:t>Denouement:</a:t>
            </a:r>
            <a:br>
              <a:rPr sz="4000"/>
            </a:br>
            <a:r>
              <a:rPr b="0" lang="en-US" sz="4000" spc="-1" strike="noStrike">
                <a:solidFill>
                  <a:srgbClr val="223471"/>
                </a:solidFill>
                <a:latin typeface="Arial"/>
              </a:rPr>
              <a:t>The resolution of the conflict in a plot after the climax.  It also refers to the resolution of the action in a story or play after the principal drama is resolved—in other words, tying up the loose ends or wrapping up a story. </a:t>
            </a:r>
            <a:endParaRPr b="0" lang="en-US" sz="40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Dramatic Monologu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poem with a fictional narrator addressed to someone who identity the audience knows, but who does not say anything.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Elegy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poem mourning the dead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End rhym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Rhyming words that are at the ends of their respective lines—what we typically think of as normal rhyme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Epic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long poem narrating the adventures of a heroic figure—for example, Homer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 </a:t>
            </a:r>
            <a:r>
              <a:rPr b="0" i="1" lang="en-US" sz="4400" spc="-1" strike="noStrike">
                <a:solidFill>
                  <a:srgbClr val="223471"/>
                </a:solidFill>
                <a:latin typeface="Arial"/>
              </a:rPr>
              <a:t>The Odyssey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Fable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story that illustrates a moral often using animals as the character—for example, </a:t>
            </a:r>
            <a:r>
              <a:rPr b="0" i="1" lang="en-US" sz="4400" spc="-1" strike="noStrike">
                <a:solidFill>
                  <a:srgbClr val="223471"/>
                </a:solidFill>
                <a:latin typeface="Arial"/>
              </a:rPr>
              <a:t>The Tortoise and the Hare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Alliteration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repetition of first consonants in a group of words as in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Peter Piper Picked a Peck of Pickled Peppers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Figurative Language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Language that does not mean exactly what it says.  For example, you can call someone who is very angry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teaming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 Unless steam was actually coming out of your ears, you were using figurative language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First Person Point of View:</a:t>
            </a: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point of view of writing which the narrator refers to himself as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I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Foreshadowing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technique in which an author gives clues about something that will happen later in the story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Free Vers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Poetry with no set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meter (rhythm) or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rhyme scheme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Genre:</a:t>
            </a: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kind of style usually art or literature.  Some literary genres are mysteries, westerns, and romances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Hyperbol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huge exaggeration.  For example,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Dan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 the funniest guy on the planet!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or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at baseball card is worth a zillion dollars!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Iambic pentameter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en-syllable lines in which every other syllable is stressed.  For example: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With eyes like stars upon the brave night air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3471"/>
                </a:solidFill>
                <a:latin typeface="Arial"/>
              </a:rPr>
              <a:t>Imagery:</a:t>
            </a:r>
            <a:br>
              <a:rPr sz="4000"/>
            </a:br>
            <a:r>
              <a:rPr b="0" lang="en-US" sz="4000" spc="-1" strike="noStrike">
                <a:solidFill>
                  <a:srgbClr val="223471"/>
                </a:solidFill>
                <a:latin typeface="Arial"/>
              </a:rPr>
              <a:t>The use of description that helps the reader imagine how something looks, sounds, feels, smells, or taste.  Most of the time, it refers to appearance.  For example, </a:t>
            </a:r>
            <a:r>
              <a:rPr b="0" lang="ja-JP" sz="40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223471"/>
                </a:solidFill>
                <a:latin typeface="Arial"/>
              </a:rPr>
              <a:t>The young bird</a:t>
            </a:r>
            <a:r>
              <a:rPr b="0" lang="ja-JP" sz="40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223471"/>
                </a:solidFill>
                <a:latin typeface="Arial"/>
              </a:rPr>
              <a:t>s white, feathered wings flutter as he made his way across the nighttime sky.</a:t>
            </a:r>
            <a:r>
              <a:rPr b="0" lang="ja-JP" sz="40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Internal rhym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rhyme that occurs within one line such as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He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 King of the Swing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Irony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Language that conveys a certain ideas by saying just he opposite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Allusion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reference to something or someone often literary.  For instance, if you were trying to instill confidence in a friend and said,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Use the force,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that would be an allusion to Stars Wars.  The verb form of allusion is to allude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Literal Language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Language that means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exactly what it says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Lyric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type of poetry that expresses the poet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 emotions.  It often tells some sort of brief story, engaging the reading in the experience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Metaphor:</a:t>
            </a: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comparison that doesn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 use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like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or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s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—such as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He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 a rock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or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I am an island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Meter:</a:t>
            </a: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pattern of stressed and unstressed syllables in the lines of a poem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Monologue:</a:t>
            </a: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long speech by one character in a play or story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Mood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emotional atmosphere of a given piece of writing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Motif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theme or pattern that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recurs in a work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Myth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legend that embodies the beliefs of people and offers some explanation for natural and social phenomena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Onomatopoeia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use of words that sound like what they mean such as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buzz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Paradox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seeming contradiction. 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For example,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It was the best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of times. It was the worst of times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Antagonist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major character who opposes the protagonist in a story or play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Parody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humorous, exaggerated imitation of another work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Personification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Giving inanimate object human characteristics. For example,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flames reached for the child hovering in the corner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Plot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action in the story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Prose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Writing organized into sentences and paragraphs.  In other words, normal writing—not poetry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Protagonist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main character of a novel, play, or story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Pun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use of a word in a way that plays on its different meanings.  For example,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Noticing the bunch of bananas, the hungry gorilla went ape.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Quatrain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four-line stanza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Rhetorical Question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question not meant to be answered such as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Why can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 we just get along?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Sarcasm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Language that conveys a certain idea by saying just he opposite such as if it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 raining outside and you say,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My what a beautiful day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Satire:</a:t>
            </a: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work that makes fun of something or someone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Archetyp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character who represents a certain type of person.  For example, Daniel Boone is an archetype of the early American frontiersman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Sensory imagery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Imagery that has to do with something you can see, hear, taste, smell, or feel.  For example,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stinging, salty air drenched his face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Simil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comparison that uses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like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or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s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For example,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I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m as hungry as a wolf,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or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My love is like a rose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Soliloquy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monologue in which a character expresses his or her thoughts to the audience and does not intend the other characters to hear them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Sonnet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fourteen-line poem written iambic pentameter.  Different kinds of sonnets have different rhyme schemes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Stanza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section of poetry separated from the sections before and after it; a verse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paragraph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Subplot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line of action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econdary to the main story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Symbolism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use of one things to represent another.  For example, a dove is a symbol of peace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Them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central idea of a work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Ton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author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 attitude toward his or her subject.  For example, a tone could be pessimistic, optimistic, or angry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Voic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narrative point of view whether it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 in the first, second, or third person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Assonanc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repetition of vowel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ounds as in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Days wane away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Atmospher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overall feeling of a work, which is related to tone and mood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Blank vers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Unrhymed lines of poetry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usually in iambic pentameter.  Plenty of modern poetry is written in blank verse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Characterization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means by which an author establishes character.  An author may directly describe the appearance and personality of character or show it through action or dialogue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5T23:58:39Z</dcterms:created>
  <dc:creator>Judy Honaker</dc:creator>
  <dc:description/>
  <dc:language>en-US</dc:language>
  <cp:lastModifiedBy>SMHS</cp:lastModifiedBy>
  <dcterms:modified xsi:type="dcterms:W3CDTF">2014-04-26T19:40:44Z</dcterms:modified>
  <cp:revision>9</cp:revision>
  <dc:subject/>
  <dc:title>Literary Terms Teaching Powerpoint</dc:title>
</cp:coreProperties>
</file>